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AE77-EF60-4CED-931A-A0515BC4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FD6-344C-4427-A971-B3BD49A0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C9A-98AB-4F30-94E7-414DA8D9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CF8C-D24C-4B25-ABB7-AC79F526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8007-7228-4F79-AF4D-2C91FE10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CA19-C988-47DC-8D92-2B54831E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D944-9401-442F-A52B-7CD7C169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B83E-3768-4F54-A5CF-7BBBC565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5065-BE5B-4CEB-BE3F-FB4682E8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824F-A55C-4808-8717-9356AA79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972B-F210-4154-97C5-A55199AC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190-FC97-4229-ADF8-B2EBE886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82E9-684A-4795-AA9F-76D9EB2C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9AB8-6251-4718-A6EA-6F656548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FCF6-5BAA-49AB-AED4-C532D9C0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9697-1E2F-49F2-8CAF-8D3F0E05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6054-B4D3-44BF-8791-FB7EEAA7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F31-2765-4736-B976-D869B519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99A-D742-4E43-9639-06A77E69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0AD-FC4A-4E8F-A02E-130012DB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142-F6E4-4433-8FCD-67D55F72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1B1F-CCE6-4475-B092-F6913862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8DD-DB2E-4042-9A93-C5A624DA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51F-62CC-4303-9E8A-54B5A3A4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19F3-1B90-40DD-8BBA-8BA9FED5D6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F73E-6C9F-4D87-B10A-F30B9D4C72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PE 481 - Minesweep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743200" y="6248160"/>
            <a:ext cx="6400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feez Ja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Case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testField1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59424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Case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testField2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388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Case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testField3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3595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Case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testField4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4689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Case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testField5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706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Case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testField6" descr=""/>
          <p:cNvPicPr/>
          <p:nvPr/>
        </p:nvPicPr>
        <p:blipFill>
          <a:blip r:embed="rId1"/>
          <a:stretch/>
        </p:blipFill>
        <p:spPr>
          <a:xfrm>
            <a:off x="1066680" y="1951200"/>
            <a:ext cx="632484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lementation Details - Deftempla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1981080"/>
            <a:ext cx="53337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Mine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id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row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col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status ?status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multislot surroundingUnknowns) - integ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multislot allSurroundingSquares) - integ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numSurroundingFlags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Minefield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mineSquaresKnown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numberMines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mineHeight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mineWidth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lementation Details - Defgloba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PTY_SQU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AGGED_M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KN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lementation Details – GUI hook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reveal-square ?row ?co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flag-square ?row ?co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lementation Details – Jess command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35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cs.vu.nl/~ksprac/2002/doc/Jess60/functions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ngth$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the number of fields in a multifield valu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TRUE if the first argument is a subset of the second (i.e., all the elements of the first multifield appear in the second multifield); otherwise, returns FALS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ment$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a new multifield consisting of all elements of the second multifield not appearing in the first multifiel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section$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the intersection of two multifields. Returns a multifield consisting of the elements the two argument multifields have in common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true if the argument is true, false otherwis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828800" y="2286000"/>
          <a:ext cx="25480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86000"/>
                    <a:ext cx="25480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241960" y="2319480"/>
            <a:ext cx="344484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le of th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ly created by Robert Donner and Curt Joh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Fe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1981080"/>
          <a:ext cx="1743120" cy="23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174312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491920" y="2438280"/>
            <a:ext cx="38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open and save mine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4495680"/>
          <a:ext cx="1219320" cy="16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495680"/>
                    <a:ext cx="121932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2057400" y="48006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more freedom in choosing minefield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Features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80880" y="2209680"/>
          <a:ext cx="4081680" cy="43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09680"/>
                    <a:ext cx="408168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557240" y="2928960"/>
            <a:ext cx="406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Rete engine on/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 Rete engine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all combinations (be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oal of the Assig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a JESS agent that will find mines in a given Mine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esweeper.c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in the Jess directory, each rule that is written in this file will be loaded and executed by the MineSweeper program to determine min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ding Crite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ally deduce and flag mine locations in a given solvable minefield (one that doesn't require guess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ve all the test cases in the "testCases" direc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ve expert minefields in an efficient and fast man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 breakdow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points for implementing the deffunctions "flagAllSurroundingUnknowns" and "revealAllSurroundingUnknown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points for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points for the test ru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points for the README file and documentation of the source co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mi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minesweeper.clp"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ing the JESS rules to solve a given mine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ME file documenting how your agent deduces mine locations and any known limi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C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presentation contains 6 basic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may not be the ones I use to test you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18:11:33Z</dcterms:created>
  <dc:creator>hjaffer</dc:creator>
  <dc:description/>
  <dc:language>en-US</dc:language>
  <cp:lastModifiedBy>hjaffer</cp:lastModifiedBy>
  <dcterms:modified xsi:type="dcterms:W3CDTF">2004-01-30T21:00:35Z</dcterms:modified>
  <cp:revision>16</cp:revision>
  <dc:subject/>
  <dc:title>CPE 481 - Minesweeper</dc:title>
</cp:coreProperties>
</file>